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CFA-209F-4489-8644-B42EC400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243-345A-4A76-AFB6-638F36B6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B47-5FD5-4FA0-9F2F-E4B16DF7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4A3-A110-4580-9AA0-BF1831A0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A49B-1441-4A8B-9AE0-141CE0A1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BDFD-7BAC-45F5-A172-9BC62D5B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3AAE-DBA0-4E3F-89C4-31336EB2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071E-8559-4AF6-8E09-D136E5A3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9E28-6D4F-4E1E-A1E8-B6CB59DE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94A5-EE8B-4512-8FEA-5803EDAC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7964-3C29-49DF-99DF-3999FE8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377-B115-46E6-A7BF-F5706BD2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9F65-F192-44D8-BF5D-EE8B1B56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7F99-23F7-46EC-9AC4-126BBC1A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F783-F5C1-4C16-AE82-D31AF08E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A8D2-68CF-41E9-BC02-87350BE4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0632-4FC7-499B-82B3-7FA09395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629-599F-4D5D-B4A2-2F97A2B2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A29-8BD4-40EC-BE05-417CD2A2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E5D-5914-4D57-A405-684F3B2B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1E2-FCB3-488D-820C-63184F18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214-59CC-431A-8E9A-7F766195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241-F415-42AC-833B-FFCB0928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996-ACFF-4823-972A-2FD905A0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3607-2C71-4C70-ABA0-F5483CD34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8D2F-62FA-4204-8722-860832F7395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1676160"/>
            <a:ext cx="79246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on-infectious granulomas of the ski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coid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robiosis lipoidica diabetic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ial diagn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pro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hen ruber plan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orias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and 3 stage of syphi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5741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no specific therap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sible spontaneous re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icosteroid therapy (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local,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ntrales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TX, hydroxychloroquine, cyclosporine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ma anul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ic, benign dis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lear etiology (insect bite, trauma, viruses?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ly children and adolesc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76680" y="2017800"/>
            <a:ext cx="50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back of 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nds, feet, elbows, knees, trun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, solid nodules forming annular or polycyclic fig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7" descr="ANd9GcQ9zqRLj8FcVRMuov486xEhKMLzAMgdm8LwZGRlenxah4VztBz8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214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ANd9GcRN55DBYL2xWTCNi7jH5rO57ueYZ3lMWvV2H3ipSqMgiZw1xQWY"/>
          <p:cNvPicPr/>
          <p:nvPr/>
        </p:nvPicPr>
        <p:blipFill>
          <a:blip r:embed="rId2"/>
          <a:stretch/>
        </p:blipFill>
        <p:spPr>
          <a:xfrm>
            <a:off x="5181480" y="4114800"/>
            <a:ext cx="3657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 can occur on any site of the body and is occasionally widesp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ymptoms, but affected areas are often t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laques tend to slowly change shape, size, and positio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sed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G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ually affects the fingers or the backs of both hands, but is also common on top of the foot or ankle, and over one or both elb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Content Placeholder 3" descr="Granuloma annulare"/>
          <p:cNvPicPr/>
          <p:nvPr/>
        </p:nvPicPr>
        <p:blipFill>
          <a:blip r:embed="rId1"/>
          <a:srcRect l="0" t="614" r="0" b="25228"/>
          <a:stretch/>
        </p:blipFill>
        <p:spPr>
          <a:xfrm>
            <a:off x="0" y="2590920"/>
            <a:ext cx="3086280" cy="3051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3048120" y="2413080"/>
            <a:ext cx="59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ised granuloma annulare usually presents in adults, as widespread skin-coloured, pinkish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ured patch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sseminated type is composed of small papules, usually arranged symmetr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Can 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ocia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utoimmune </a:t>
            </a:r>
            <a:r>
              <a:rPr b="0" lang="en-US" sz="2400" spc="-1" strike="noStrike">
                <a:solidFill>
                  <a:srgbClr val="0d0d0d"/>
                </a:solidFill>
                <a:latin typeface="Tahoma"/>
              </a:rPr>
              <a:t>thyroiditis, diabetes mellitus, hyperlipidaemia, and rarely with lymphoma, HIV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ction and solid tumo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tary or generalized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les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logy: granulomas around the foci of incomplete collagen necro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g: clinical picture, histolo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g: lichen, sarcoidosis, necrobiosis lipoidica, tin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                                </a:t>
            </a: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rapy (for generalized forms): dapsone, retinoids, PUV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therapy: KS ointments (under occlusion), intralesional KS, cry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crobiosis lipoidica diabetic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-90% in diabe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lection places: pretibial, symme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5" descr="ANd9GcR0f9oJsUvk1tkaJGnqW4rhb_XZzhKw-zuiqDl0ZOqgn-re2UasrQ"/>
          <p:cNvPicPr/>
          <p:nvPr/>
        </p:nvPicPr>
        <p:blipFill>
          <a:blip r:embed="rId1"/>
          <a:stretch/>
        </p:blipFill>
        <p:spPr>
          <a:xfrm>
            <a:off x="5181480" y="1905120"/>
            <a:ext cx="3733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dule or macule, pinkish-yellow or dark in color, which merges into oval p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er: scleratrophic, yellowish with telangiectasi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rder: raised, firm, erythematous or liv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ANd9GcR0f9oJsUvk1tkaJGnqW4rhb_XZzhKw-zuiqDl0ZOqgn-re2UasrQ"/>
          <p:cNvPicPr/>
          <p:nvPr/>
        </p:nvPicPr>
        <p:blipFill>
          <a:blip r:embed="rId1"/>
          <a:stretch/>
        </p:blipFill>
        <p:spPr>
          <a:xfrm>
            <a:off x="5410080" y="19051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rcoid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system disease of the skin, mucous membranes and internal orga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iology is unknown (sarcoid antigen?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ersible immune disord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eficiency of cellular immun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oral immunity is "raised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8" descr="ANd9GcT_a5kr5O83tIJhHGo4MV6ICmLAKL2dGfJ-2hSLwxVboTZvlm6Wuw"/>
          <p:cNvPicPr/>
          <p:nvPr/>
        </p:nvPicPr>
        <p:blipFill>
          <a:blip r:embed="rId1"/>
          <a:stretch/>
        </p:blipFill>
        <p:spPr>
          <a:xfrm>
            <a:off x="5410080" y="2057400"/>
            <a:ext cx="335304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ANd9GcTl4s2QmS3ErePZYpY79NKAF0G87YI8s6MoGuwCQ6G_wDrZIjLZ"/>
          <p:cNvPicPr/>
          <p:nvPr/>
        </p:nvPicPr>
        <p:blipFill>
          <a:blip r:embed="rId2"/>
          <a:stretch/>
        </p:blipFill>
        <p:spPr>
          <a:xfrm>
            <a:off x="5410080" y="4191120"/>
            <a:ext cx="335304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SaXLUmj5P2q_rRFsBT86X02mx3MMLfXfv2W620YrITfox16ZoV5Q"/>
          <p:cNvPicPr/>
          <p:nvPr/>
        </p:nvPicPr>
        <p:blipFill>
          <a:blip r:embed="rId3"/>
          <a:stretch/>
        </p:blipFill>
        <p:spPr>
          <a:xfrm>
            <a:off x="1219320" y="2286000"/>
            <a:ext cx="3276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017440"/>
            <a:ext cx="88027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linical 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se: spontaneous resolution (20%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path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y: granulomas in the deeper dermis, with hyaline collagen necro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G: granuloma annulare, sarcoidosis, localized scleroder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apy: KS locally or 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09480"/>
            <a:ext cx="7792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cerative dermatose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efflorescence: ulceration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 (ulc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ANd9GcS_1qgCH75KhuIF5W06KnhOsrs1nOfEezW6yVFgrmGoBvcXEbSrng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lcer character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z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p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RS" sz="2800" spc="-1" strike="noStrike">
                <a:solidFill>
                  <a:srgbClr val="000000"/>
                </a:solidFill>
                <a:latin typeface="Tahoma"/>
              </a:rPr>
              <a:t>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rounding sk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ANd9GcSTYKgUH7r2SYGKA6AXB8yRlApvwROyFmi5rihItTcYW4yC0bkD"/>
          <p:cNvPicPr/>
          <p:nvPr/>
        </p:nvPicPr>
        <p:blipFill>
          <a:blip r:embed="rId1"/>
          <a:stretch/>
        </p:blipFill>
        <p:spPr>
          <a:xfrm>
            <a:off x="5410080" y="213372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iology and differential diagnosis of ulcer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320" y="2133720"/>
            <a:ext cx="91440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ases of the arteries (arterial ulceration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ronic venous insufficiency (venous ulceration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atological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ction: TB, leprosy, deep mycoses, ecthy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opla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phic ulcers (malum perforans pedis) Vasculitis (Purpura Henoch-Schoenle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nous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ication of varicose veins and HV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cose ve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enous leg ulcer is the most common type of leg ulcer, accounting for over 90% of all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0" descr="ANd9GcQYP-LYHdnAw766aECfqc9ohTLlR2SE9DdP7oJzf09qiTIgMOwX"/>
          <p:cNvPicPr/>
          <p:nvPr/>
        </p:nvPicPr>
        <p:blipFill>
          <a:blip r:embed="rId1"/>
          <a:stretch/>
        </p:blipFill>
        <p:spPr>
          <a:xfrm>
            <a:off x="4343400" y="4284720"/>
            <a:ext cx="16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ANd9GcTe3CPLpbl1AQVl-F2Bq0ybVWCEGrZAVpRljh903QhO2ilXg12usQ"/>
          <p:cNvPicPr/>
          <p:nvPr/>
        </p:nvPicPr>
        <p:blipFill>
          <a:blip r:embed="rId2"/>
          <a:stretch/>
        </p:blipFill>
        <p:spPr>
          <a:xfrm>
            <a:off x="6248520" y="43815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ANd9GcQuGaD7dHxiuxsJA3WPrEBeUq1g8DVsDfaBurU7LcIdA69sa5Tq1g"/>
          <p:cNvPicPr/>
          <p:nvPr/>
        </p:nvPicPr>
        <p:blipFill>
          <a:blip r:embed="rId3"/>
          <a:stretch/>
        </p:blipFill>
        <p:spPr>
          <a:xfrm>
            <a:off x="914400" y="4284720"/>
            <a:ext cx="3257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nous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t common type of leg ulcer, accounting for over 90% of all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 symptoms of a venous leg ulcer include pain, itching and swelling in the affected l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coloured or hardened skin around the ulcer, and the sore may produce a foul-smelling dis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ANd9GcSGNF_T2b4neU1Xo36w6aTUj5jAourTICzGJK2LoKWu1sIj_4Rm"/>
          <p:cNvPicPr/>
          <p:nvPr/>
        </p:nvPicPr>
        <p:blipFill>
          <a:blip r:embed="rId1"/>
          <a:stretch/>
        </p:blipFill>
        <p:spPr>
          <a:xfrm>
            <a:off x="3429000" y="213372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ANd9GcSD0-yzYI_Xj-IDKuNp03Rz6o1bKV8Cir59py9Nr8CnKdmFzZJKxQ"/>
          <p:cNvPicPr/>
          <p:nvPr/>
        </p:nvPicPr>
        <p:blipFill>
          <a:blip r:embed="rId2"/>
          <a:stretch/>
        </p:blipFill>
        <p:spPr>
          <a:xfrm>
            <a:off x="7315200" y="3048120"/>
            <a:ext cx="1542960" cy="2962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Nd9GcSyorD6HD11gtp3Htu3O1Un8r-IAwhq-OdJ3_uNtLpivDx6ZVD1Bw"/>
          <p:cNvPicPr/>
          <p:nvPr/>
        </p:nvPicPr>
        <p:blipFill>
          <a:blip r:embed="rId3"/>
          <a:stretch/>
        </p:blipFill>
        <p:spPr>
          <a:xfrm>
            <a:off x="838080" y="21337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ANd9GcTTq-pFLrdubN2gFzGt2_zzRev8gQZJK7Vy-7L6bcY4r6mv2WnQ"/>
          <p:cNvPicPr/>
          <p:nvPr/>
        </p:nvPicPr>
        <p:blipFill>
          <a:blip r:embed="rId4"/>
          <a:stretch/>
        </p:blipFill>
        <p:spPr>
          <a:xfrm>
            <a:off x="838080" y="40384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ANd9GcSsHhjqsjOohgxqBAa0y_7BiHJg0e2PVUxgmb9oC_k0C9TfTePB"/>
          <p:cNvPicPr/>
          <p:nvPr/>
        </p:nvPicPr>
        <p:blipFill>
          <a:blip r:embed="rId5"/>
          <a:stretch/>
        </p:blipFill>
        <p:spPr>
          <a:xfrm>
            <a:off x="4038480" y="4038480"/>
            <a:ext cx="2438640" cy="1876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ronic venous insufficienc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                 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1676520"/>
          <a:ext cx="8269560" cy="5352840"/>
        </p:xfrm>
        <a:graphic>
          <a:graphicData uri="http://schemas.openxmlformats.org/drawingml/2006/table">
            <a:tbl>
              <a:tblPr/>
              <a:tblGrid>
                <a:gridCol w="4114800"/>
                <a:gridCol w="4154760"/>
              </a:tblGrid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with fibrin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zymatic cleaning (fibrolan) Surgical debrid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with exu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 comp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cer inf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 comp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adiazine silver crea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 (+/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ean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as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ul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lfadiazine silver cream Hydrocolloid compress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sters according to Guil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 gra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rapy</a:t>
            </a:r>
            <a:r>
              <a:rPr b="0" lang="sr-Latn-RS" sz="3600" spc="-1" strike="noStrike">
                <a:solidFill>
                  <a:srgbClr val="333399"/>
                </a:solidFill>
                <a:latin typeface="Tahoma"/>
              </a:rPr>
              <a:t> – Compression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720" y="2057040"/>
            <a:ext cx="9124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rove vein circulation in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gs and treat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rm compression bandage over the affected leg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blood to flow upwards, towards heart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erent types of bandage or elastic stockin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lled procedure and they should be applied by trained healthcare staff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occurs most often between 40-50 years of 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n: specific and non-specific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erial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ic ul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as the result of damage to the arteries due to lack of blood flow to tiss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adequate blood supply to the affected area (ischaem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d by peripheral artery diseas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ake months to heal, if they heal at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erial ulc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: atherosclerosis, arterial occlusion, embolism, vascular collagen diseases, vasculitis, thromboanginitis oblitera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derly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8802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N: intermittent claudication Pains in peace They increase when the patient is lying down Patients stay up all n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n can be worse at night, and patients hang the leg out of bed or sleep in a chair to get relief from this night pa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N: pale, cold, hairless, dystrophic nai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erial pulses are not palp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017800"/>
            <a:ext cx="5105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: foot, lateral sides of the lower leg or area of ​​the malleol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lceration 3-4 cm deep, covered with a dark necrotic eschar,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out granul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s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typ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ecro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ssue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is typically dry, black, firm, and usually adhered to the wound bed and e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varicose vei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ngrene of fingers, feet and/or le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7" descr="ANd9GcTbqB5nxzvDNcO0rPDEy8Kq-XUzLeDLDT-SgpmMwpSw1RM6iqmfEw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1952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DiabeticFootUlcer350w"/>
          <p:cNvPicPr/>
          <p:nvPr/>
        </p:nvPicPr>
        <p:blipFill>
          <a:blip r:embed="rId2"/>
          <a:stretch/>
        </p:blipFill>
        <p:spPr>
          <a:xfrm>
            <a:off x="5181480" y="3657600"/>
            <a:ext cx="36576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nched-out look, usually round in shape, with well-defined, even wound marg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p, often extending down to the underlying tendons, and will frequently display no signs of new tissue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 of the wound typically does not bleed, and is yellow, brown, grey or black in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a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76320" y="1218960"/>
            <a:ext cx="9220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imary goal is to increase circulation to the area, either surgically or med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Systrmic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atment: Pentoxifylli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treatment: wound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dr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gical options range fro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ascularization to ampu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ifying contributing factors can slow or stop the progression of the local isch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s: diabetic neuropathy and neuropathies of other eti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: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nically: Limited hyperkeratotic pl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lceration in the center of the pla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NLESS, does not epithel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apy: underlying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8" descr="1655-f11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footulcers"/>
          <p:cNvPicPr/>
          <p:nvPr/>
        </p:nvPicPr>
        <p:blipFill>
          <a:blip r:embed="rId2"/>
          <a:stretch/>
        </p:blipFill>
        <p:spPr>
          <a:xfrm>
            <a:off x="4419720" y="4419720"/>
            <a:ext cx="4572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bus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yna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: sensitivity of arteries to col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the hands, less often the fe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ages: 1. pale and cold ski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anotic skin 3.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tive hyperem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cou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chronic, it can lead to trophic </a:t>
            </a:r>
            <a:r>
              <a:rPr b="0" lang="sr-Latn-RS" sz="3200" spc="-1" strike="noStrike">
                <a:solidFill>
                  <a:srgbClr val="000000"/>
                </a:solidFill>
                <a:latin typeface="Tahoma"/>
              </a:rPr>
              <a:t>le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64771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olymorphic- papules, nodules, infiltrated plaques =&gt; sc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upus perni</a:t>
            </a:r>
            <a:r>
              <a:rPr b="0" i="1" lang="sr-Latn-R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cutaneous manifestation of sarcoidosis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presents as a violaceous lesion or shiny nodules over the head and neck but is predominantly localized to the nose, cheeks, and ears.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pus pernio can present either as an isolated skin lesion or it can be an early manifestation of systemic sarcoido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Non-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rythema nodosum (3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rg_hi" descr="ANd9GcQqquOJ6WTB6zWVivmRdmLqs-vtqKRk0fGyJJzPXcM4_4jHcH-N1A"/>
          <p:cNvPicPr/>
          <p:nvPr/>
        </p:nvPicPr>
        <p:blipFill>
          <a:blip r:embed="rId1"/>
          <a:stretch/>
        </p:blipFill>
        <p:spPr>
          <a:xfrm>
            <a:off x="6629400" y="3200400"/>
            <a:ext cx="2209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rg_hi" descr="ANd9GcQkSo7007mNGad2-MSDJE7cnhiw4RJHlXGn3oKIzCUXK7qWi-jMHg"/>
          <p:cNvPicPr/>
          <p:nvPr/>
        </p:nvPicPr>
        <p:blipFill>
          <a:blip r:embed="rId1"/>
          <a:stretch/>
        </p:blipFill>
        <p:spPr>
          <a:xfrm>
            <a:off x="990720" y="1828800"/>
            <a:ext cx="373356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ANd9GcQ_DhYqPNMct3aZ7NU7802WTfgf42QtKWPfKtzTTWzzMNiBCRsv"/>
          <p:cNvPicPr/>
          <p:nvPr/>
        </p:nvPicPr>
        <p:blipFill>
          <a:blip r:embed="rId2"/>
          <a:stretch/>
        </p:blipFill>
        <p:spPr>
          <a:xfrm>
            <a:off x="5029200" y="1828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ANd9GcRxs8P6y6mTPq_ft4aCqOWutt_6ykxljWmiXFouHK38153v_cJ_"/>
          <p:cNvPicPr/>
          <p:nvPr/>
        </p:nvPicPr>
        <p:blipFill>
          <a:blip r:embed="rId3"/>
          <a:stretch/>
        </p:blipFill>
        <p:spPr>
          <a:xfrm>
            <a:off x="1523880" y="403848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fig6"/>
          <p:cNvPicPr/>
          <p:nvPr/>
        </p:nvPicPr>
        <p:blipFill>
          <a:blip r:embed="rId4"/>
          <a:stretch/>
        </p:blipFill>
        <p:spPr>
          <a:xfrm>
            <a:off x="4648320" y="41911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ous membranes (nodules and plaques): conjunctiva, nasal, tonsils, 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organs: lungs (80-100%), bones (5%), eyes, parotid glands, lacrimal and salivary glands (Mikulice syndrome), enlarged lymph glands, CNS and all other internal org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ical pi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2600" y="2017800"/>
          <a:ext cx="7772400" cy="41940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Lungs</a:t>
                      </a: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ki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Clinical </a:t>
                      </a:r>
                      <a:r>
                        <a:rPr b="0" lang="sr-Latn-R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ourse</a:t>
                      </a:r>
                      <a:r>
                        <a:rPr b="0" lang="sr-Latn-RS" sz="20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stage: Mediastinal lymph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ythema nodo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ntaneous 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ond stage: Parenchymatous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pules and nodu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ften spontaneous resolution Incomplete 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ird stage: Pulmonary fibr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pus per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reversible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path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bare granuloma" without caseous necr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Figure 1Spectrum of Pathological Findings in Patients with Sarcoidosis."/>
          <p:cNvPicPr/>
          <p:nvPr/>
        </p:nvPicPr>
        <p:blipFill>
          <a:blip r:embed="rId1"/>
          <a:stretch/>
        </p:blipFill>
        <p:spPr>
          <a:xfrm>
            <a:off x="4648320" y="1828800"/>
            <a:ext cx="423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n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fin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berculin tes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neg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m's test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neg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E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emia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curia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in immunoelectrophoresis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I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ay of the lungs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-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ar adenopathy, parenchymatous 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e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ray of the hand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teitis cys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pathology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are granuloma" without caseous necr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26:39Z</dcterms:created>
  <dc:creator>XP</dc:creator>
  <dc:description/>
  <dc:language>en-US</dc:language>
  <cp:lastModifiedBy>korisnik</cp:lastModifiedBy>
  <dcterms:modified xsi:type="dcterms:W3CDTF">2023-08-19T16:31:50Z</dcterms:modified>
  <cp:revision>94</cp:revision>
  <dc:subject/>
  <dc:title>Неинфективни грануломи коже</dc:title>
</cp:coreProperties>
</file>